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734-22F9-4EE0-BC99-9EEF5A2D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59C-FC8F-4B16-8077-EA539EC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127-60B4-43E8-ABE0-8CE5A3AF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29D-62CD-4011-97E5-C2A5128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BEB-B3F1-4EEF-8EBC-E9AFC11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5C3-085C-4D6A-AC56-B2E4C01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774-E165-48D8-9295-4E28045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552-2279-4E2E-9FC9-AAFB46B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8DF-D7B3-477D-AF62-E4A1B3BC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F2E-E3A9-48E7-9D1D-E9AC0BC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DBC-FF5E-43B3-83FF-34AD66F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305-2B9A-4566-B077-CF38B13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F87D-2C62-420E-86DA-E46D4C75B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етодолошке валидности и клиничке значајности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</a:t>
            </a:r>
            <a:r>
              <a:rPr b="0" i="1" lang="en-U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-</a:t>
            </a: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вод у фармацеутску прак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експериментална и контро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 третиране исто сем третмана који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би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о сле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ри извођењу закљу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ацијенти узети у обзи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20%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анализирани у групама у којима су били на почетку истраживањ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05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(number needed to 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ризика за појаву лошег исхода лечења у експерименталној (Е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контролној групи (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= EER/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 – разлика између појаве лошег исхода лечења након примене нов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ER - Experimental Event Rate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изика појаве исхода лошег исхода лечења након примене већ испробан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 - Control Event Rate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=EER-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да би се код једног од њих избегао лош исход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needed to tr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T=1/A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цени валидности студије дијагностичког теста неопходно је тражити потврдан одговор на следећа пита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 ли су резултати дијагностичког теста испитиваног у студиј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 и слеп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ени 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м стандардом дијагнозе обољ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 ли је испитивани дијагностички тест испита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 ли је златни стандард употребље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резултата дијагностичког тес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 популација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у различитим стадијумима боле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зличитом клиничком сликом, нелечени пацијенти, предходно лечени пацијенти, пацијенти са сличним обољењем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здрави део попул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дијагностички поступак им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у значајнос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након његове примене вероватноћа да пацијент има неку болест значајно већа него пре његов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рерачунати следеће параметре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, специфичност, предиктивну вредност теста и однос могућ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процене валидности треба утврдит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 ли је економска страна прихватљива за пацијента, да ли ће примењени тест променити исход лечења, да ли ће пацијент прихватити извођење те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- Претрага база података на Интернету које садрже систематске прегледне чланке о клиничком проблему који нас интересује.(Cochrane database of systematic reviews, MED-LINE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ки 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вака особеност пацијента која може имати утицај на ток и природу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критеријуми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ског интервала током којег су праћени пациј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и губитак пацијената – до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обољења је неопходно објективно утврд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упоређује добро дефинисане алтернативне поступке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ефинише гледиште са кога се спроводи анализ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ира добре доказе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у студији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овани сви релевантни трошкови и ефект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резултати могу применити на нашег пације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података за цене у Србиј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на књига РФЗО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нализа осетљив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а техника у фармакоекономији је студија испитивања односа трошкова и ефеката (eng. cost –effective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о правило је да интервенције које се анализирају буду поредбене у сфери трошкова и ефе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– Поступак са пронађеним публикацијама које су релевантне за питање које смо постави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ји у целини се детаљно анализирају у смислу утврђивања методолошке валидности и клиничке значај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методолошке валидности и клиничке значајности се спроводи на основу критеријума који зависе од типа студије коју анализирамо: дијагностичка, терапијска студија, прогностичка студија фармакоекономска студија, систематски прегледни рад, мета анализа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атски прегледни чланак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и анализира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објављених клиничких студија и 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 циљем да читаоцу представи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у слику о неком терапијском поступку или дијагностичком тес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раживање у којем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из више појединачних клиничких студија истог лека се сумирају и статистичкиобраде, тако као да је рађена једна велика клиничка сту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резултате представљене у систематском прегледном чланку могли прихватити као валидне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систематски прегледни чланак буде резултат детаљне претраге свих значајних база подат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валидности клиничке значајности ист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обухватају само оне студије које испуњавају критеријуме валид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систематског прегледног чланка у смислу процене његове валидности подразумева постојање дела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лу МЕТОД аутори морају детаљно навести начин претраге, критеријуме које су користили за процену валидности и клиничку значајност пронађених публикациј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ељка МЕТОД мо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јасно шта од публикација је укључено у даљу анализу и извођење закључ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и прегледни чланак који испуњава критеријуме валидности критички анализира тему којом се бави и на транспарентан начин и независно од спољних чиниоца обрађује и процењује резултате клиничких студ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лучај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рстани у контролну и експерименталну груп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контролна и експеримента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по свему сем по испитиван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7:57:08Z</dcterms:created>
  <dc:creator>Marina Kostic</dc:creator>
  <dc:description/>
  <dc:language>en-US</dc:language>
  <cp:lastModifiedBy>Marina Kostic</cp:lastModifiedBy>
  <dcterms:modified xsi:type="dcterms:W3CDTF">2023-09-11T10:15:06Z</dcterms:modified>
  <cp:revision>33</cp:revision>
  <dc:subject/>
  <dc:title>Анализа методолошке валидности и клиничке значајности студија</dc:title>
</cp:coreProperties>
</file>